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7E65-4C60-409F-BF17-89394DCE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62F9-41E5-428B-B5C1-214F0162B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43705-9D96-4357-9FD8-C7CA3FA4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4AF42F-4A04-4109-8820-6C93A0A1A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EB983-B70F-40B6-8F6E-DA0CD429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377521-77D1-4D7C-91AC-9CF438EF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CC43E-DF3A-49EF-90FB-8316894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594062-148C-4570-B4CA-6AB9F05C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D82AC-F56D-4852-BA6D-8A6ED488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A9DAF-9FE1-4211-AA43-3BD4509C9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4EDB0-016F-4768-8201-4D4718AD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03080B-60CF-4164-AA5A-2808A626A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DFDD-BED2-46E8-86C0-0106680C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FB82A0-6A8B-4C1B-847B-F3C4D7AF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029EFD-6ACC-483D-A7E2-D7A61157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D4F56E-BCE5-428B-BF6E-3AE94ABB2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9CE740-D858-4550-8AC6-6F732B246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8CC3A6-68DE-40B9-8854-36D9847B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CBE5C-AC0D-4FFF-80A3-2D8BC73E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AF8F50-B691-4079-B54C-C8FD496C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2BA958-3232-487A-8318-9B9FBA02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CD989-C4F3-4D54-BC24-4CB0E36F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F4C3F-15AD-4863-BBC0-A9E512543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DC55-51A5-4B25-86B5-00C0BD00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0BBAC-E30B-46FF-B569-50374964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2A5A86-2750-46AA-847C-A2B3F3D46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FCEE5F-D07B-4890-B355-0F6856D4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6E3087-7105-4AC1-A8D7-7CDAF640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A4EA82-5EC7-456F-A15D-C397C14F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7322F7-8052-4778-8AF2-688A5F533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361DD-2393-498E-B9AD-8245E35E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5C3568-4118-4265-84EC-A79DCB79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B03CD7-5755-44C2-B779-3F9EC14A9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88D2E-29F9-4F78-B895-5D34CDD3F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FD90F-B230-47C3-9C35-5FF8401D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21C0AA-7396-4E4D-95E8-7077938EA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D51CB-9D30-4591-B754-AC2D8B85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B2B9B-EFE3-40F3-AB71-019A91A4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C8EC7C-1388-4ABD-B52B-E57FDC0E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C0D9AA-DDFD-442F-BDBE-58D80FBF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8B0A7B-D103-414C-8988-FF0A41092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EC8FEE-52A8-4694-A658-0E248809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B0BB27-0956-4273-8D4E-B193AF0D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C5360-295A-4930-AEB5-91E0B264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8CA363-74B1-4426-929E-CC2BFDBE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65C7-B05D-4C5C-9FBF-800A945C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B30B4B-2C94-4541-9F20-58D64FBDF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784214-6A5E-4EC9-ABEC-7810C050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519FAC-A2FB-4F52-94E1-C6A9DABA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EB8C75-54FF-4C28-9593-9A2E16510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0D85F9-642B-4D85-A3ED-4A93874E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6F1637-D4E7-4C48-BDA4-E7C580531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E24757-CEE5-4496-8566-D49BC8C5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A9B5F2-B9DC-4D0A-9D72-0A254349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8CC9A1-F09C-44D8-BE81-DDFE233BE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4BA120-00A5-426B-9F5C-989478A0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476A-833F-4159-972B-0A9772C2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6C188-46E4-4468-BDEF-0BB273345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E6C291-3F27-4629-9381-404A599BE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70AE36-A637-4781-A613-DE709E2AB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68AFB-0669-4597-A032-E0CAA26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82DD54-DF48-4924-8AEA-E20190006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D9CEA8-BA02-4B9A-BF4C-5875314AE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1BDC6-4E35-4AF2-ACF1-8F1E72DA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2B244D-8C0A-4041-B437-39112CE8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2D6AF7-9B54-44A5-A124-8F338E551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A0AFC-E6AB-42B4-8EE6-742EBBA2C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B6135-2C1D-4897-A43A-35FAD229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A6C34-C26B-43D4-B0ED-3A3AF88F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9709EE-B186-449E-A80C-A09B26DE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FE03F4-4764-4F1A-990B-19BA16A98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54620B-21F7-4542-8832-58873EF5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4062C4-7278-4508-80B3-B07C2128B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5A179B-C621-422A-A114-855B5EE3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2ED17C-20D9-441C-BA97-9097A9F5A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45750-842F-4D6F-A877-2950479CD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F1C5E4-9129-4E07-8CBE-CE3AC5233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B42B12-FBF7-4EA3-A634-6010B38EC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2DC4B-2BBE-44EF-8B4B-E4952C37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F048D5-444D-4F58-A8D7-0B881E679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07FD4F-5A58-435A-B5F7-2870C6B9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403C9A-FC41-424D-99CA-136A7E3E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37D0E7-D366-44AA-A492-4D243179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283E6D-003B-4D10-9C9B-7E032DBA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E3E121-14A6-46C4-8A1E-119ACBF2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CE5BDD-16AA-4D89-90E2-9E88510A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6ACFB-93AA-4DDA-B35A-EF100988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CB27D4-F8A7-4387-BCE6-7F78DDC4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A60203-98C5-4C1D-9DE6-980366114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A4E6-22E7-4345-9D93-F2A8545D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BB4127-8645-4CFE-B6A0-35ABA8A97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764F38-9D74-4473-B57A-7AC9628B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B3E19F-7201-4C58-9DB1-454E9AEF5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1B3FE9-FBCB-40C2-A60C-24CBCCDF2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5C7768-F273-47C3-B37B-3C3960326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119ABA-02F4-45C6-B89E-3402D384B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392D9-B8AE-4A52-8998-61E5C75F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C2C6C5-F4C4-4F10-AF00-E31C0863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FCE693-49C0-49FE-909F-672C95E3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C1610F-37AE-420A-8CC4-C83E6C10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B48E3-1F3C-43BB-B5B4-0C7655DD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280046E-8DD2-4A71-B7BA-FE27145D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ED7BAF-9838-45F7-B297-01EEF30F0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EA1EE3-F068-4EF1-A159-99D84CD72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8672D5-6817-442F-8AC7-93DFDDBA1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0182EA-B429-43E1-ADBB-9B65B0FC4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99A3E9-7931-4B91-B472-EB72ABE33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CC9483-B06B-4A2A-A87A-0ED54DE4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55A237-500B-45D0-AC68-6752ADC3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8B85B3-163F-4F7F-8142-A1C7600A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04B022-717D-43CD-81DB-E0CD173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017-0D57-4940-92E2-66BA9337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AB79B-5656-4534-BDD2-4BC0DC87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F658E-191E-4DF4-B14B-E8B57586B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F35609-6A20-4BD0-AE87-58F7C518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9F748CE-6F58-46B9-A23F-D1BD5763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60A1A-D00A-4D5E-9BC2-2C6A1FB32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9A5F72-BF39-4727-809A-61A458E0C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14EFA6-D255-47F9-8AF5-CC2BE508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2FD92D-7280-4534-A73C-68A02D08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127975-26BC-4152-B848-85F30C44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223271-7B1C-4AB9-A5CC-9D1C474C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9F332A-58D0-431B-A0B9-E16D0EFD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A26EA-A560-476D-B901-25A76A47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5938E7-22AE-4930-869E-C5628438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927B68-8423-42C9-A5F1-A446CFE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90DF63-91A8-460D-B6FE-3C494E52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85989A3-6BFF-47F0-8E70-350933DA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C3367-61AC-43E4-8EF6-26CCD96F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10A03-7403-4AD6-BEC2-6D20A5184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0CE925-56E4-4A8C-A1BD-792C813D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AA9A67-9E20-4016-B84D-6E3A5CBE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4EA5A7-D132-46B7-825B-0A39DDF1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710660B-FCB6-4543-846B-00A6C580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DCC5-9F87-4A08-AA88-54C0CA9E7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01D093-35CF-4D45-874E-5EB11090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47BA9-BF40-4E69-8A77-39BBE6F4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E2F498-4E4B-4E0A-B92E-89BDEF90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1154ED-EA1D-436B-BED9-9C9C1E02D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39F322-BA88-4421-9E0F-16D1A3758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8F2901-28FC-44DD-9AF4-5B59E788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C654DDF-A39B-4BC8-98B4-8A847C9E2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CCEA39-C606-4A32-AC9D-2487FE8C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728928-01EC-45BC-853E-A16976DD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5771F7-018A-4779-B732-E095DD6A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19673-7B3B-4E8C-87B2-504CC51F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5BF3A2-0F4F-4BB6-A9F8-E5BAF8511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1168D4-25EC-4AE5-ADA2-28E2AE69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B3D854-631C-4285-B15E-AF2C5ED27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7F40E-B383-4E14-AB45-07743AC2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9C6107-2726-41B1-970E-D9787BE7C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76B482-A08E-4AC1-A2BD-545AB79A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44F798-B326-45D9-8548-F8592B38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2E8DD-179F-4712-9DAB-BE2D371F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EC0D0-A912-43B2-B93E-6EBB445C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F4FF37-02B3-4B1D-B48C-EBC2AA66D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61D7-21A3-4450-92A8-A13F512B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2E923-C128-441B-8C4A-1B1B1E3F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DF1B65-64D6-464C-ADD8-376A7D9D2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E108EF-B325-49CE-86B9-CA84660F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895647-01EF-4060-9398-0848F436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6C1B8C-DB54-4511-987C-788550A6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D9672F-ED06-473C-A1AC-A1A457C7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07F298-6643-4475-8EFC-14E15542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AF0A6D-AE1B-493B-B949-2068ABB0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6847DB-E660-48E5-B91A-AD04439E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A61125-C50C-4C7C-B702-EDBE227C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BE24C-95FC-4EAD-8DC3-599BC2BA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9F5E896-1C7D-4903-B812-5E4214E6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D53A44-D93B-4464-80C2-69C4E44CA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808870-A8C4-4BB3-9969-9DF3444BB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20D84-9CB9-4925-B467-726671ABF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9F5A2-DCEA-473A-A58F-91195E7BB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C0E06-45DF-4BF7-9CC6-B7E53115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A8815-58F1-4740-BEC1-BE4D0BB9D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07D9-E2BD-4BA3-BCC9-3A53CBA44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37C3B-4401-4661-9BF7-D2E804BE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88DF7-1381-43D4-BAD4-A1D4BCCC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E06F8-F82B-4F46-9E52-93D1E401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EE315-8081-43DE-B356-4B5D2B569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283C-C284-4CFE-89D6-4D7D3ED75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C0FB3-CF08-49EC-96B2-59BC1427F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28726-5F93-4C9D-AB44-CF8DCFE2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1303-9F1C-471F-B292-FA8A1CD4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191B3-6205-4AA6-8A51-37117F85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74084-F918-47E8-9F67-F58709805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AA27-A1E6-4E3A-B49A-36856BECC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28264-ADB3-4F7A-B344-4CDB7148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7EBE52-0D18-41D5-99DC-B6592C38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3F6CB-6EDE-4DE5-8A45-28F5CB0A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544CB-8D85-40A9-8BEC-4B97FCAD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16247-6D71-4CAE-9164-10EF8940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6F458D-3C0A-4D29-B8D6-82F03CDAB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03009E-178A-4939-AB7F-6AB25778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C8A5-3220-4DC7-B0FD-FB2C5C51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67383B-25F6-4A90-8299-ABA95A427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7D0A9-F0B0-4070-83B4-A9B3A262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DD7C-6397-46B7-B47A-F170470F9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FC187-9D3D-457C-9F87-3E26BC74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345143-9CB0-407F-99C8-EFCF96994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BD8AB5-1934-4BEB-B6BC-2C1477F26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E227C-6BE9-40D1-B7AC-9CD43407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47BE0-E09B-45E0-9904-41912F02F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A6F95-DE23-4771-8956-50002A4E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1BE072-3D20-422F-8406-DB918F2B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848EBD-2CF7-42A5-B766-9A0CB093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266B0-159F-41BC-B2AC-EB67F94B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BDF7E-86A3-4EC5-9E38-1328C1479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DE04-2A2C-49A9-8876-CC9EED3E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734C48-1F7E-4C77-8E6A-1F21F588C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574CE-F1D0-43A9-9FF4-9157C8385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CD096-E5B5-4476-B880-9E146290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45EA7D-2554-4F49-929D-C9F134F8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09249-5AC3-4E35-BB42-D708EFF9C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B49E4-A352-4606-B722-453A85BD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EF594-B8FB-40E7-957E-E33CE103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24CBE-2C5A-41CD-B01F-FD9B61706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78ABA-6F6B-454F-B1C6-7F388FCD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810E95-6455-41B8-95C2-4333B5C9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F12B-0AA0-47A5-A826-7F9762E5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FFD422-BA11-40DC-B83C-F6EA1127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BB63D-BD09-4032-8882-0CB7895E0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F6A60B-413A-4B05-84F2-C0016813C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F1284-1B1B-4B6D-B04F-761648D7F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301A4-6611-4F93-AD2C-0CDA02F69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3E067-8BC2-4322-98C7-12DBD348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E7226-08C2-4082-B403-39945024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719CE-E999-4EDD-B595-595475397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E5B571-4ED9-40B2-903A-A72E6D30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1E098-BA33-4406-AFA6-5B4A3BE23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2E02-E070-4074-ABB2-5401776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9ED13-62DE-4174-9945-386AC71D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76D0A5-BDA1-461F-A68A-84EE38E4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1739A-68C2-4859-8E88-69737B641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F65D24-128E-43D9-8310-ABFDA12F2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05E80-960E-4CB0-AD81-58100C2F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56D923-6691-4301-BEE5-C65735985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B3DB54-06E3-4975-A874-89E88BC97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17868-97DF-466C-B47E-ADB33DB3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32789-72F3-47F2-A7ED-3F53A1F7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D5FFD-7C41-411F-B9DC-5E9046DEA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BBA-516B-46B7-927C-FF14527B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5061-4CEA-4CCF-B744-2E115EC81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834C8-77E2-415E-9E1C-A0E389BF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481BB-81DC-49E7-AA72-E8123AA5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25896B-BEC7-448D-AC88-5749913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310E0F-55C7-4AAD-8100-F5C1FFC2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7D729-73F9-416F-8E1A-1C08D635F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C7FAA-CA69-4EE0-8DD3-CFBAF5C1F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E7CE4-742F-400C-81FD-597007119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CEDA81-9915-4AF3-B983-3F132384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5540B-1E27-42C8-8B42-79CB2957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4959-ABBE-4128-97EA-BA051B7793A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763B-4BC6-4B3E-B7B5-030BF187BA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CC8BF-F48D-4255-B65E-2EBB83DF85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32615-3E7F-4394-95F1-A4BF8AC65B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7601-3417-457C-814C-CE107BFE0D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7B64-40E3-49C1-AD7F-1A36100746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97B8-8344-459E-9CB2-83CE7B2E8E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BD47-78F7-4D8A-84FB-6644C0B5B8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9CEE0-3A52-4E75-A50F-F3F4F0CD47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AD917-43BF-425F-9C07-DBBD8E7F29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0D982-A2BF-425F-8FC8-EB80C9263D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7BE1-623D-42FD-AAF6-60B9A6E8C1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C553-1A12-4673-B6FC-B4D634E682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CD9B3-A6B0-4347-881E-4EEF80617D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C56AC-A8C5-4B42-88F9-8C576D92B3E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645FC-1B03-44B2-BAE3-5D523698DD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802D5-B4CD-4ED7-8F22-E0CDBCAADE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A39D6-5014-42EA-9FEC-F7D6AA21943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DA1DF-1CEB-4990-95F8-B5A9853854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F569-F9F0-4B86-AB58-459F27D7CD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B07F-3B60-4D9E-8E72-37028FDC14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76BB6-CBA2-4618-8244-1AD34A480A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1139-C6EE-49A9-B63F-1C8AF799C6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1ABE-1CB0-409F-8179-EB117E461D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3B7D7-098C-44DF-A83E-DA1DD3DC8D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4DE5-4FED-4BF9-94E4-EC78D60C30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56EA1-17E1-4496-BD08-91469495606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F8A2-66D6-4071-BFA8-3818AC00AE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A44D-C9CB-4383-990E-1A6B74C931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FBFEC-EF79-4A9B-97F6-8C13F47022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27CB1-9F72-49D1-B16E-7B139AA72B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DAA7-011F-4E67-B140-E4A7CE25A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FB4C1-1F72-455F-9A56-44A2F3E5BF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5E0B9-610D-442B-872A-808733C46C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57AED-ED85-4F39-87BF-39B6A4F307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4A64-A23D-4C67-9228-46DBABFECD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FD5E1-2EEE-4C51-9FC6-9A462E974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9E2F-5930-49F2-8B96-044D319DB1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580D-8078-4F1D-AB66-698B52D372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825CB-26D9-407E-AF0C-BF1835ECF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3360" y="2355840"/>
            <a:ext cx="8477280" cy="8571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828880" y="3597120"/>
            <a:ext cx="34862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9" name="图片 52231" descr=""/>
          <p:cNvPicPr/>
          <p:nvPr/>
        </p:nvPicPr>
        <p:blipFill>
          <a:blip r:embed="rId1"/>
          <a:stretch/>
        </p:blipFill>
        <p:spPr>
          <a:xfrm>
            <a:off x="1552680" y="852480"/>
            <a:ext cx="6038640" cy="515304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1" descr=""/>
          <p:cNvPicPr/>
          <p:nvPr/>
        </p:nvPicPr>
        <p:blipFill>
          <a:blip r:embed="rId2"/>
          <a:stretch/>
        </p:blipFill>
        <p:spPr>
          <a:xfrm>
            <a:off x="2050920" y="3529080"/>
            <a:ext cx="5400720" cy="47952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1" descr=""/>
          <p:cNvPicPr/>
          <p:nvPr/>
        </p:nvPicPr>
        <p:blipFill>
          <a:blip r:embed="rId3"/>
          <a:stretch/>
        </p:blipFill>
        <p:spPr>
          <a:xfrm>
            <a:off x="1979640" y="4164120"/>
            <a:ext cx="5400720" cy="47916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1" descr=""/>
          <p:cNvPicPr/>
          <p:nvPr/>
        </p:nvPicPr>
        <p:blipFill>
          <a:blip r:embed="rId4"/>
          <a:stretch/>
        </p:blipFill>
        <p:spPr>
          <a:xfrm>
            <a:off x="2122560" y="4795920"/>
            <a:ext cx="5400720" cy="479520"/>
          </a:xfrm>
          <a:prstGeom prst="rect">
            <a:avLst/>
          </a:prstGeom>
          <a:ln w="0">
            <a:noFill/>
          </a:ln>
        </p:spPr>
      </p:pic>
      <p:pic>
        <p:nvPicPr>
          <p:cNvPr id="993" name="Picture 1" descr=""/>
          <p:cNvPicPr/>
          <p:nvPr/>
        </p:nvPicPr>
        <p:blipFill>
          <a:blip r:embed="rId5"/>
          <a:stretch/>
        </p:blipFill>
        <p:spPr>
          <a:xfrm>
            <a:off x="2050920" y="5430960"/>
            <a:ext cx="540072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2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81160" y="941400"/>
            <a:ext cx="8581680" cy="58006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3117960" y="4054320"/>
            <a:ext cx="517320" cy="43020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4211640" y="4062240"/>
            <a:ext cx="517680" cy="430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268360" y="4854600"/>
            <a:ext cx="2303640" cy="4302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2195640" y="5516640"/>
            <a:ext cx="2303280" cy="4302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2268360" y="6180120"/>
            <a:ext cx="2303640" cy="4302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6934320" y="4025880"/>
            <a:ext cx="517320" cy="43020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8028000" y="4033800"/>
            <a:ext cx="517680" cy="4302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084720" y="4826160"/>
            <a:ext cx="2664000" cy="4302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0"/>
          <a:stretch/>
        </p:blipFill>
        <p:spPr>
          <a:xfrm>
            <a:off x="6012000" y="5487840"/>
            <a:ext cx="2303280" cy="4302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1"/>
          <a:stretch/>
        </p:blipFill>
        <p:spPr>
          <a:xfrm>
            <a:off x="6084720" y="6151680"/>
            <a:ext cx="230364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9410" descr=""/>
          <p:cNvPicPr/>
          <p:nvPr/>
        </p:nvPicPr>
        <p:blipFill>
          <a:blip r:embed="rId1"/>
          <a:stretch/>
        </p:blipFill>
        <p:spPr>
          <a:xfrm>
            <a:off x="557280" y="919080"/>
            <a:ext cx="8029440" cy="553428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4975200" y="1197000"/>
            <a:ext cx="1728720" cy="479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4514760" y="1773360"/>
            <a:ext cx="1728720" cy="4791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4514760" y="290988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5364000" y="282744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6156360" y="29242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7"/>
          <a:stretch/>
        </p:blipFill>
        <p:spPr>
          <a:xfrm>
            <a:off x="6804000" y="280980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8"/>
          <a:stretch/>
        </p:blipFill>
        <p:spPr>
          <a:xfrm>
            <a:off x="5148360" y="394668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9"/>
          <a:stretch/>
        </p:blipFill>
        <p:spPr>
          <a:xfrm>
            <a:off x="5997600" y="3863880"/>
            <a:ext cx="576360" cy="5302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10"/>
          <a:stretch/>
        </p:blipFill>
        <p:spPr>
          <a:xfrm>
            <a:off x="6789600" y="396072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11"/>
          <a:stretch/>
        </p:blipFill>
        <p:spPr>
          <a:xfrm>
            <a:off x="7437600" y="3846600"/>
            <a:ext cx="576000" cy="530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12"/>
          <a:stretch/>
        </p:blipFill>
        <p:spPr>
          <a:xfrm>
            <a:off x="5608800" y="5618160"/>
            <a:ext cx="576000" cy="5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76801" descr=""/>
          <p:cNvPicPr/>
          <p:nvPr/>
        </p:nvPicPr>
        <p:blipFill>
          <a:blip r:embed="rId1"/>
          <a:stretch/>
        </p:blipFill>
        <p:spPr>
          <a:xfrm>
            <a:off x="614520" y="1500120"/>
            <a:ext cx="7914960" cy="385776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2"/>
          <a:stretch/>
        </p:blipFill>
        <p:spPr>
          <a:xfrm>
            <a:off x="5075280" y="1836720"/>
            <a:ext cx="431640" cy="3589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5724360" y="17589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472080" y="182232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7121520" y="174456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4846680" y="2881440"/>
            <a:ext cx="431640" cy="358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5495760" y="2803680"/>
            <a:ext cx="576360" cy="4791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8"/>
          <a:stretch/>
        </p:blipFill>
        <p:spPr>
          <a:xfrm>
            <a:off x="6243480" y="2867040"/>
            <a:ext cx="432000" cy="35892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9"/>
          <a:stretch/>
        </p:blipFill>
        <p:spPr>
          <a:xfrm>
            <a:off x="6892920" y="2789280"/>
            <a:ext cx="576360" cy="47952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10"/>
          <a:stretch/>
        </p:blipFill>
        <p:spPr>
          <a:xfrm>
            <a:off x="5076720" y="4551480"/>
            <a:ext cx="93528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8373" descr=""/>
          <p:cNvPicPr/>
          <p:nvPr/>
        </p:nvPicPr>
        <p:blipFill>
          <a:blip r:embed="rId1"/>
          <a:stretch/>
        </p:blipFill>
        <p:spPr>
          <a:xfrm>
            <a:off x="676440" y="1366920"/>
            <a:ext cx="7791120" cy="41241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332000" y="285264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1332000" y="350028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1332000" y="422100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5508720" y="285264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6"/>
          <a:stretch/>
        </p:blipFill>
        <p:spPr>
          <a:xfrm>
            <a:off x="5508720" y="350028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7"/>
          <a:stretch/>
        </p:blipFill>
        <p:spPr>
          <a:xfrm>
            <a:off x="5508720" y="4221000"/>
            <a:ext cx="3095640" cy="4795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8"/>
          <a:stretch/>
        </p:blipFill>
        <p:spPr>
          <a:xfrm>
            <a:off x="5435640" y="4869000"/>
            <a:ext cx="309564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7352" descr=""/>
          <p:cNvPicPr/>
          <p:nvPr/>
        </p:nvPicPr>
        <p:blipFill>
          <a:blip r:embed="rId1"/>
          <a:stretch/>
        </p:blipFill>
        <p:spPr>
          <a:xfrm>
            <a:off x="700200" y="1809720"/>
            <a:ext cx="7743600" cy="323856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611280" y="2492280"/>
            <a:ext cx="3313080" cy="47952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611280" y="3156120"/>
            <a:ext cx="3313080" cy="47916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4"/>
          <a:stretch/>
        </p:blipFill>
        <p:spPr>
          <a:xfrm>
            <a:off x="611280" y="3844800"/>
            <a:ext cx="3313080" cy="479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5"/>
          <a:stretch/>
        </p:blipFill>
        <p:spPr>
          <a:xfrm>
            <a:off x="611280" y="4508640"/>
            <a:ext cx="3313080" cy="4791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6"/>
          <a:stretch/>
        </p:blipFill>
        <p:spPr>
          <a:xfrm>
            <a:off x="5119560" y="2492280"/>
            <a:ext cx="3313080" cy="4795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7"/>
          <a:stretch/>
        </p:blipFill>
        <p:spPr>
          <a:xfrm>
            <a:off x="5119560" y="3156120"/>
            <a:ext cx="3313080" cy="47916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8"/>
          <a:stretch/>
        </p:blipFill>
        <p:spPr>
          <a:xfrm>
            <a:off x="5119560" y="3844800"/>
            <a:ext cx="3313080" cy="4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4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2" name="图片 56324" descr=""/>
          <p:cNvPicPr/>
          <p:nvPr/>
        </p:nvPicPr>
        <p:blipFill>
          <a:blip r:embed="rId1"/>
          <a:stretch/>
        </p:blipFill>
        <p:spPr>
          <a:xfrm>
            <a:off x="728640" y="820800"/>
            <a:ext cx="7686720" cy="58482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2"/>
          <a:stretch/>
        </p:blipFill>
        <p:spPr>
          <a:xfrm>
            <a:off x="1116000" y="3774960"/>
            <a:ext cx="3887640" cy="47952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3"/>
          <a:stretch/>
        </p:blipFill>
        <p:spPr>
          <a:xfrm>
            <a:off x="1116000" y="4379760"/>
            <a:ext cx="3887640" cy="47952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4"/>
          <a:stretch/>
        </p:blipFill>
        <p:spPr>
          <a:xfrm>
            <a:off x="1187280" y="4984920"/>
            <a:ext cx="3888000" cy="4791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5"/>
          <a:stretch/>
        </p:blipFill>
        <p:spPr>
          <a:xfrm>
            <a:off x="1187280" y="5589720"/>
            <a:ext cx="3888000" cy="4791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6"/>
          <a:stretch/>
        </p:blipFill>
        <p:spPr>
          <a:xfrm>
            <a:off x="1187280" y="6194520"/>
            <a:ext cx="597708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55300" descr=""/>
          <p:cNvPicPr/>
          <p:nvPr/>
        </p:nvPicPr>
        <p:blipFill>
          <a:blip r:embed="rId1"/>
          <a:stretch/>
        </p:blipFill>
        <p:spPr>
          <a:xfrm>
            <a:off x="262080" y="1200240"/>
            <a:ext cx="8619840" cy="445752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971640" y="3198960"/>
            <a:ext cx="3744720" cy="4791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900000" y="3803760"/>
            <a:ext cx="3745080" cy="4791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826920" y="4422600"/>
            <a:ext cx="3745080" cy="4795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755640" y="5027760"/>
            <a:ext cx="777708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3" dur="10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8" dur="10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10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3" name="图片 54276" descr=""/>
          <p:cNvPicPr/>
          <p:nvPr/>
        </p:nvPicPr>
        <p:blipFill>
          <a:blip r:embed="rId1"/>
          <a:stretch/>
        </p:blipFill>
        <p:spPr>
          <a:xfrm>
            <a:off x="466560" y="166680"/>
            <a:ext cx="8210880" cy="652464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2"/>
          <a:stretch/>
        </p:blipFill>
        <p:spPr>
          <a:xfrm>
            <a:off x="971640" y="374508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3"/>
          <a:stretch/>
        </p:blipFill>
        <p:spPr>
          <a:xfrm>
            <a:off x="1042920" y="436572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4"/>
          <a:stretch/>
        </p:blipFill>
        <p:spPr>
          <a:xfrm>
            <a:off x="971640" y="4968720"/>
            <a:ext cx="3240000" cy="47952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1" descr=""/>
          <p:cNvPicPr/>
          <p:nvPr/>
        </p:nvPicPr>
        <p:blipFill>
          <a:blip r:embed="rId5"/>
          <a:stretch/>
        </p:blipFill>
        <p:spPr>
          <a:xfrm>
            <a:off x="1042920" y="5589720"/>
            <a:ext cx="3240000" cy="47916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1" descr=""/>
          <p:cNvPicPr/>
          <p:nvPr/>
        </p:nvPicPr>
        <p:blipFill>
          <a:blip r:embed="rId6"/>
          <a:stretch/>
        </p:blipFill>
        <p:spPr>
          <a:xfrm>
            <a:off x="1042920" y="6194520"/>
            <a:ext cx="4824360" cy="47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0" dur="10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5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15:41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